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4387175" cy="13716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76F8-4E4C-4E9B-A5E1-6E518933F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21948480" cy="43174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7928280"/>
            <a:ext cx="21948480" cy="43174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C294-8875-4D7B-B132-4940B2B3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246608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945D-F311-44E1-AAAE-085DBB12F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640360" y="320040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6061040" y="320040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792828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8640360" y="792828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6061040" y="7928280"/>
            <a:ext cx="7067160" cy="43174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16A0-A1A6-4442-9B26-6AD158391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3200400"/>
            <a:ext cx="21948480" cy="905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99"/>
              </a:spcBef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3910-CB05-4450-B2B9-D94484B3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21948480" cy="90518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E410-4CEA-4437-B7F2-B2108FAD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6DFC-4630-4133-85AF-6FFC1202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E823-46CC-40C3-9923-DB742F6C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549360"/>
            <a:ext cx="21948480" cy="105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99"/>
              </a:spcBef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135F-F022-4B91-8481-4F753283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8E92-F66C-4137-9F02-F867E973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90518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466080" y="792828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C77D-CA51-4BA6-9AF7-98B576BF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1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2466080" y="3200400"/>
            <a:ext cx="10710720" cy="43174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7928280"/>
            <a:ext cx="21948480" cy="431748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EB5C-58E2-4A9C-B28E-8155CF71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21948480" cy="228600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 algn="ct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10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0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3200400"/>
            <a:ext cx="21948480" cy="90518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t">
            <a:normAutofit fontScale="92000"/>
          </a:bodyPr>
          <a:p>
            <a:pPr marL="750600" indent="-750600">
              <a:spcBef>
                <a:spcPts val="1899"/>
              </a:spcBef>
              <a:buClr>
                <a:srgbClr val="000000"/>
              </a:buClr>
              <a:buFont typeface="Arial"/>
              <a:buChar char="•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  <a:p>
            <a:pPr lvl="1" marL="1626840" indent="-624960">
              <a:spcBef>
                <a:spcPts val="1899"/>
              </a:spcBef>
              <a:buClr>
                <a:srgbClr val="000000"/>
              </a:buClr>
              <a:buFont typeface="Arial"/>
              <a:buChar char="–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  <a:p>
            <a:pPr lvl="2" marL="2503080" indent="-499320">
              <a:spcBef>
                <a:spcPts val="1899"/>
              </a:spcBef>
              <a:buClr>
                <a:srgbClr val="000000"/>
              </a:buClr>
              <a:buFont typeface="Arial"/>
              <a:buChar char="•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  <a:p>
            <a:pPr lvl="3" marL="3504960" indent="-499320">
              <a:spcBef>
                <a:spcPts val="1899"/>
              </a:spcBef>
              <a:buClr>
                <a:srgbClr val="000000"/>
              </a:buClr>
              <a:buFont typeface="Arial"/>
              <a:buChar char="–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  <a:p>
            <a:pPr lvl="4" marL="4505400" indent="-499320">
              <a:spcBef>
                <a:spcPts val="1899"/>
              </a:spcBef>
              <a:buClr>
                <a:srgbClr val="000000"/>
              </a:buClr>
              <a:buFont typeface="Arial"/>
              <a:buChar char="»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  <a:p>
            <a:pPr lvl="5" marL="4505400" indent="-499320">
              <a:spcBef>
                <a:spcPts val="1899"/>
              </a:spcBef>
              <a:buClr>
                <a:srgbClr val="000000"/>
              </a:buClr>
              <a:buFont typeface="Arial"/>
              <a:buChar char="»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  <a:p>
            <a:pPr lvl="6" marL="4505400" indent="-499320">
              <a:spcBef>
                <a:spcPts val="1899"/>
              </a:spcBef>
              <a:buClr>
                <a:srgbClr val="000000"/>
              </a:buClr>
              <a:buFont typeface="Arial"/>
              <a:buChar char="»"/>
              <a:tabLst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18960" y="12712320"/>
            <a:ext cx="5691240" cy="7304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lstStyle>
            <a:lvl1pPr indent="0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  <a:defRPr b="0" lang="en-US" sz="2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332560" y="12712320"/>
            <a:ext cx="7721640" cy="7304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p>
            <a:pPr indent="0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7476920" y="12712320"/>
            <a:ext cx="5690880" cy="730440"/>
          </a:xfrm>
          <a:prstGeom prst="rect">
            <a:avLst/>
          </a:prstGeom>
          <a:noFill/>
          <a:ln w="0">
            <a:noFill/>
          </a:ln>
        </p:spPr>
        <p:txBody>
          <a:bodyPr lIns="217800" rIns="217800" tIns="108720" bIns="108720" anchor="ctr">
            <a:noAutofit/>
          </a:bodyPr>
          <a:lstStyle>
            <a:lvl1pPr indent="0" algn="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  <a:defRPr b="0" lang="en-US" sz="2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2176560"/>
                <a:tab algn="l" pos="4352760"/>
                <a:tab algn="l" pos="6529320"/>
                <a:tab algn="l" pos="8705880"/>
                <a:tab algn="l" pos="10882440"/>
              </a:tabLst>
            </a:pPr>
            <a:fld id="{5B7CC226-961F-4982-8591-163AB407D412}" type="slidenum">
              <a:rPr b="0" lang="en-US" sz="2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14:11:54Z</dcterms:created>
  <dc:creator>David Shumway</dc:creator>
  <dc:description/>
  <dc:language>en-US</dc:language>
  <cp:lastModifiedBy>David Shumway</cp:lastModifiedBy>
  <dcterms:modified xsi:type="dcterms:W3CDTF">2011-09-29T14:48:04Z</dcterms:modified>
  <cp:revision>3</cp:revision>
  <dc:subject/>
  <dc:title>PowerPoint Presentation</dc:title>
</cp:coreProperties>
</file>