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716000" cy="24387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18E-290D-4787-A10C-0133AFCA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1234440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4096520"/>
            <a:ext cx="1234440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3AD-F595-4313-B298-F5978179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11360" y="568908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409652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011360" y="1409652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B58-4DD8-4627-888D-3808C3FC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397476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9640" y="5689080"/>
            <a:ext cx="397476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33480" y="5689080"/>
            <a:ext cx="397476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4096520"/>
            <a:ext cx="397476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59640" y="14096520"/>
            <a:ext cx="397476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33480" y="14096520"/>
            <a:ext cx="397476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303-802E-445A-8374-EEA730DB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689080"/>
            <a:ext cx="12344400" cy="160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54F-FBD7-4683-8CEB-ECF457C3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12344400" cy="1609596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CA8-352F-43CB-9CA0-20ADB822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6023880" cy="1609596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011360" y="5689080"/>
            <a:ext cx="6023880" cy="1609596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7BD-F995-4A44-911F-3684FAE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712-D556-40C3-B4A8-3FEFD31B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75960"/>
            <a:ext cx="12344400" cy="188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D92-5094-4574-B3B1-C8C13841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11360" y="5689080"/>
            <a:ext cx="6023880" cy="1609596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409652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D22-882E-47DB-B1A0-67C347EB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6023880" cy="1609596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011360" y="568908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11360" y="1409652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10F-22E8-4A99-8FB5-1486866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68908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011360" y="5689080"/>
            <a:ext cx="602388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4096520"/>
            <a:ext cx="12344400" cy="76777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6D0-C999-4749-8619-894A418A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75960"/>
            <a:ext cx="12344400" cy="4065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689080"/>
            <a:ext cx="12344400" cy="1609596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marL="816120" indent="-81612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1" marL="1768320" indent="-67932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2" marL="2720880" indent="-54288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3" marL="3809880" indent="-54288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4" marL="489744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5" marL="489744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6" marL="489744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22602600"/>
            <a:ext cx="3200400" cy="1298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2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22602600"/>
            <a:ext cx="4343400" cy="1298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29800" y="22602600"/>
            <a:ext cx="3200400" cy="129852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2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E869E984-08AC-436F-B690-BF53C902EECC}" type="slidenum">
              <a:rPr b="0" lang="en-US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4:11:54Z</dcterms:created>
  <dc:creator>David Shumway</dc:creator>
  <dc:description/>
  <dc:language>en-US</dc:language>
  <cp:lastModifiedBy>David Shumway</cp:lastModifiedBy>
  <dcterms:modified xsi:type="dcterms:W3CDTF">2011-09-29T14:39:04Z</dcterms:modified>
  <cp:revision>3</cp:revision>
  <dc:subject/>
  <dc:title>PowerPoint Presentation</dc:title>
</cp:coreProperties>
</file>